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470-F550-4514-93F1-4093846E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EA9-90A3-4298-B5D5-0B048AA6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70E-CE39-4280-A5A6-B377FA5F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462-2300-4212-8776-FFBCE4F9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E65-DEEC-4ED9-B224-0B96D176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12F-38AE-4D78-8DBC-49AFFBEF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BC6-E46D-4E3D-A80A-3BC102EA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98C-D642-4430-AC4F-6F67F25B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7AC-E029-4DAF-8192-8AE30912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F00-C34D-421F-8AE7-C422209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62B-6721-4B62-A95D-393610B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421-91B7-4976-A90A-C5F1480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7C77-33D8-4778-897F-E5C576429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PCA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purpose of the PCA is to determine the level of organisational development and to identify areas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ed data can be presented in cobweb or graph for easy illustration of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berate choice is made to associate organisational growth to stages of huma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143000"/>
          <a:ext cx="80773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0773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b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3850920" y="306864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V="1">
            <a:off x="5076720" y="299736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2916000" y="4365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 flipH="1">
            <a:off x="3924360" y="486900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5076720" y="486900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543564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421164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5292720" y="350028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5292360" y="4292640"/>
            <a:ext cx="431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 flipH="1">
            <a:off x="3634920" y="3500280"/>
            <a:ext cx="57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3635280" y="436572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4211640" y="5157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>
            <a:off x="3203280" y="3284640"/>
            <a:ext cx="8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>
            <a:off x="3203640" y="4365720"/>
            <a:ext cx="792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>
            <a:off x="3995640" y="5589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 flipV="1">
            <a:off x="5508720" y="4292280"/>
            <a:ext cx="64764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H="1" flipV="1">
            <a:off x="5508360" y="3141360"/>
            <a:ext cx="71892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4067280" y="3141360"/>
            <a:ext cx="144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 flipV="1">
            <a:off x="3851280" y="5805000"/>
            <a:ext cx="18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H="1">
            <a:off x="5724360" y="4292640"/>
            <a:ext cx="7192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2916360" y="4365720"/>
            <a:ext cx="9349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 flipV="1">
            <a:off x="2916360" y="3068280"/>
            <a:ext cx="9349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4"/>
          <p:cNvSpPr/>
          <p:nvPr/>
        </p:nvSpPr>
        <p:spPr>
          <a:xfrm flipV="1">
            <a:off x="3851280" y="2923920"/>
            <a:ext cx="180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5724360" y="2924280"/>
            <a:ext cx="7192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7"/>
          <p:cNvSpPr/>
          <p:nvPr/>
        </p:nvSpPr>
        <p:spPr>
          <a:xfrm flipH="1">
            <a:off x="3779640" y="566100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"/>
          <p:cNvSpPr/>
          <p:nvPr/>
        </p:nvSpPr>
        <p:spPr>
          <a:xfrm flipH="1" flipV="1">
            <a:off x="5435640" y="5516640"/>
            <a:ext cx="288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9"/>
          <p:cNvSpPr/>
          <p:nvPr/>
        </p:nvSpPr>
        <p:spPr>
          <a:xfrm flipV="1">
            <a:off x="5580000" y="28522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0"/>
          <p:cNvSpPr/>
          <p:nvPr/>
        </p:nvSpPr>
        <p:spPr>
          <a:xfrm flipV="1">
            <a:off x="4067280" y="378900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4067280" y="4365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4427640" y="486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 flipH="1">
            <a:off x="5076360" y="429264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H="1" flipV="1">
            <a:off x="5076360" y="378936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4427640" y="3789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>
            <a:off x="3203640" y="4365720"/>
            <a:ext cx="244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H="1" flipV="1">
            <a:off x="5579640" y="3499920"/>
            <a:ext cx="71640" cy="22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 flipV="1">
            <a:off x="3276720" y="3141720"/>
            <a:ext cx="2232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1"/>
          <p:cNvSpPr/>
          <p:nvPr/>
        </p:nvSpPr>
        <p:spPr>
          <a:xfrm flipH="1" flipV="1">
            <a:off x="5508720" y="3141720"/>
            <a:ext cx="712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349236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378000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363528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3924360" y="400536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4211640" y="38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8"/>
          <p:cNvSpPr/>
          <p:nvPr/>
        </p:nvSpPr>
        <p:spPr>
          <a:xfrm>
            <a:off x="406728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9"/>
          <p:cNvSpPr/>
          <p:nvPr/>
        </p:nvSpPr>
        <p:spPr>
          <a:xfrm>
            <a:off x="435600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0"/>
          <p:cNvSpPr/>
          <p:nvPr/>
        </p:nvSpPr>
        <p:spPr>
          <a:xfrm>
            <a:off x="4500720" y="371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1"/>
          <p:cNvSpPr/>
          <p:nvPr/>
        </p:nvSpPr>
        <p:spPr>
          <a:xfrm flipH="1" flipV="1">
            <a:off x="4642920" y="3644640"/>
            <a:ext cx="730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2"/>
          <p:cNvSpPr/>
          <p:nvPr/>
        </p:nvSpPr>
        <p:spPr>
          <a:xfrm flipV="1">
            <a:off x="4932360" y="3499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3"/>
          <p:cNvSpPr/>
          <p:nvPr/>
        </p:nvSpPr>
        <p:spPr>
          <a:xfrm flipV="1">
            <a:off x="478800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4"/>
          <p:cNvSpPr/>
          <p:nvPr/>
        </p:nvSpPr>
        <p:spPr>
          <a:xfrm>
            <a:off x="50767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5"/>
          <p:cNvSpPr/>
          <p:nvPr/>
        </p:nvSpPr>
        <p:spPr>
          <a:xfrm>
            <a:off x="5292720" y="3284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6"/>
          <p:cNvSpPr/>
          <p:nvPr/>
        </p:nvSpPr>
        <p:spPr>
          <a:xfrm flipV="1">
            <a:off x="5435640" y="3213000"/>
            <a:ext cx="7308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7"/>
          <p:cNvSpPr/>
          <p:nvPr/>
        </p:nvSpPr>
        <p:spPr>
          <a:xfrm flipH="1" flipV="1">
            <a:off x="5508360" y="3284280"/>
            <a:ext cx="14292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8"/>
          <p:cNvSpPr/>
          <p:nvPr/>
        </p:nvSpPr>
        <p:spPr>
          <a:xfrm flipV="1">
            <a:off x="5148360" y="3357720"/>
            <a:ext cx="71280" cy="20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9"/>
          <p:cNvSpPr/>
          <p:nvPr/>
        </p:nvSpPr>
        <p:spPr>
          <a:xfrm flipH="1" flipV="1">
            <a:off x="5364000" y="3284280"/>
            <a:ext cx="21600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0"/>
          <p:cNvSpPr/>
          <p:nvPr/>
        </p:nvSpPr>
        <p:spPr>
          <a:xfrm flipH="1" flipV="1">
            <a:off x="4572000" y="3645000"/>
            <a:ext cx="712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1"/>
          <p:cNvSpPr/>
          <p:nvPr/>
        </p:nvSpPr>
        <p:spPr>
          <a:xfrm flipH="1" flipV="1">
            <a:off x="4211280" y="3789000"/>
            <a:ext cx="730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GES OF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w born organisation. Like an infant, the organization is mainly dependant on few significant others, often known as foun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keep the newborn alive, the founders do all within their capacity to nurtur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wborn suffers from the shortage of basic needs: financial, technical, managerial and need to belo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ganizations are usually under-funded and under-staff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ew members are busy implementing all kinds of activities to keep the infant organization alive and out of dang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members play multiple roles; responsibilities overlap without any system in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Todd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like the newborn organization, the toddler can stand and walk on its f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/she engages in diverse activities to utilise the new en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ddler could walk astray with energy. Similarly, organizations see opportunities and pursue each with en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hough founders are the key to keep the organisation moving, they involve management and technical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Adoles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a some what maturing organization with adequate human and other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has a good mix of skills in staff, management and govern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shared sense of ownership by staff and management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rganisation takes time to plan, learn and refl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has basic administrative, financial and management structure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P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a high standard organization with all systems functio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, personnel and other policies and procedures are well developed and in p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sion is clearly articulated and understood by all stakehol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ar goals are set, monitored and achieved with confid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high level of accountability at all levels and a sense of ownership of the organization by all stak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7:55:12Z</dcterms:created>
  <dc:creator>Extension</dc:creator>
  <dc:description/>
  <dc:language>en-US</dc:language>
  <cp:lastModifiedBy>extension</cp:lastModifiedBy>
  <dcterms:modified xsi:type="dcterms:W3CDTF">2009-12-07T11:04:55Z</dcterms:modified>
  <cp:revision>14</cp:revision>
  <dc:subject/>
  <dc:title>Slide 1</dc:title>
</cp:coreProperties>
</file>